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5EAC-A4F0-4F4A-90E0-469E720D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626F-D9C2-44AA-AF32-602561BC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3165-D538-4C97-9BC6-EBCC7B9E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F361-C9D9-440E-9BB7-2D705D4A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7FE-A69C-48D3-907E-41BB7088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EDD2-9E95-420B-8BD8-956E9183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44A5-78A9-4624-8D68-C7060BB4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CF00-502C-4201-BFBB-4504631A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C999-F2C0-4A86-B2E8-3A00952E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587A-3765-4E58-A3F3-6448C50E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6424-F378-44B2-87FE-DD17706D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3D98-1FA6-4143-A6B7-91D896D3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C103-BBB2-439D-9F86-DECF9E8C5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s://www.b92.net/info/vesti/index.php?yyyy=2017&amp;mm=12&amp;dd=29&amp;nav_category=12&amp;nav_id=1341605" TargetMode="External"/><Relationship Id="rId2" Type="http://schemas.openxmlformats.org/officeDocument/2006/relationships/hyperlink" Target="https://www.b92.net/info/vesti/index.php?yyyy=2017&amp;mm=12&amp;dd=29&amp;nav_category=12&amp;nav_id=1341605" TargetMode="Externa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наеста недеља наставе,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09 ТОКСИКОЛОГИЈА – КЛИНИЧКИ, ЕКОЛОШКИ И ЕКСПЕРИМЕНТАЛНИ АСПЕ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ф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ободан Јанков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Опадање косе је патогномоничан знак тровања талијум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кутно тровање талијум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наци и симптоми се јављају 1-10 дана од уношења от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олови и парестезије у екстремите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илатерална пт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падање кос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такс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ијавица, коњунктивитис, повишена темп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кутно тровање талијум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81080"/>
            <a:ext cx="86868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тарг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нфузија, тремор, хореиформни покрети, атакс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нвулз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дем плућа, бронхопнеумонија, цијан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ронично тровање талијум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лопеција, атрофија к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алив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лави руб на гингив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убитак функције бубре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менореја и аспер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Лабораторија код тровања талијум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240" y="2361960"/>
            <a:ext cx="89154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емату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илинд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озинофилија, пораст полиморфонуклеара и лимфоц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Антид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686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Пруско плаво или Берлинско плаво, откривено 170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Везује моновалентне катјоне и неутралише 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Доза: 10 грама оралним пу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Гвожђ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(II,III) hexacyanoferrate(II,III) F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[Fe(CN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http://upload.wikimedia.org/wikipedia/commons/thumb/b/b2/Prussian_blue.jpg/250px-Prussian_blue.jpg"/>
          <p:cNvPicPr/>
          <p:nvPr/>
        </p:nvPicPr>
        <p:blipFill>
          <a:blip r:embed="rId1"/>
          <a:stretch/>
        </p:blipFill>
        <p:spPr>
          <a:xfrm>
            <a:off x="5943600" y="5486400"/>
            <a:ext cx="238140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Остале ме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Хемодијализа и хемоперфузија су ефикасни у отклањању талиј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ариј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ријум хемијски подс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на калциј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дињења баријума која су растворљива у води су отровна: ацетат, хлорид, нитрат, хидроксид, оксид и полисулф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дињења баријума која нису растворљива у води, нису отровна: баријум сулфат, арсенат, карбонат, хромат, флуорид и оксал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овање је рет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ариј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мртоносна орална доза баријума је 1-30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е ингестије, апсорбује се 10% бариј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½ = 18h – 3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д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ко бубрега се изл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10 – 2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аријум – клини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 сл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д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ј гастроинтестиналног тракта (бол у трбуху, пов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ње, пролив, хемораг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 гастритис и езофагити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хипокалем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је патогномо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 з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покалемија настаје због блокаде канала за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 сп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а излазак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з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м тога, пов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а се пермеабилност мембране за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он улази, а онда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умпа избацује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а убацује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јају се парализе м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лази до вазоспазма због блокаде канала за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и до хипертенз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Тровање димом: 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а је ди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м је сл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на м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вина загрејаног ваздуха, суспендованих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стих и т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х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тица, гасова, пара и аерос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сагоревању, стварају се отрови, који се могу поделити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Једноставне загу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љивц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др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љивц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Хемијске загу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љивц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аријум – дијагноза и ле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е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и ниво баријума у серуму од 0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Хипокалемиј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ромене у ЕКГ-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Испир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елуц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римена 30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магнезијум-сулфата орално смањује апсорпцију баријума, јер се он везује за сулфатну групу, и даје нерастворљиви баријум-сулфа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Велике дозе калијума парентерално ради корекције хипокалемије (и преко 400 mEq/24h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Хемодијализа и хемодијафилтрација зн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ајно убрзавају елиминацију баријум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Угљоводониц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гљоводоници су органска једињења сачињена примарно од угљеникових и водоникових атома, дужине 1-60 Ц-ат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угљоводонике се могу сврстати и уља дуголанчаних масних кисе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ле се на алилфатичне и циклич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стварачи су мешавине угљоводоника са мањим бројем Ц-ат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Особи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лифатични угљоводоници до 4 Ц-атома су у гасовитом облику, од 5-19 Ц-атома су течни, и са више од 19 Ц-атома су чврсти, на собној температ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лавни извор угљоводоника је дестилација наф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псорпција угљоводоника је утолико већа, уколико имају мање Ц-ат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Фармакокине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псорбују се значајно инхалацијом, а у мањој мери преко к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диру у ЦНС, и редистрибуирају се у организ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лиминишу се делом наизмењени путем инхалације, а делом се метаболишу у јетри до поларних једињења, која се онда излучују путем жучи или мокраћ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еј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се аспирирају, изазивају тешко акутно оштећење плућа, које траје 1-2 недељ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алогенирани угљоводоници и бензен повећавају осетљивост миокарда на катехоламине, па може доћи до аритмије и нагле смр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утно доводе до депресије ЦНС-а, слично општим анестетицима. Толуен блокира НМДА рецепторе, а 1,1,1-трихлороетан потенцира дејство глиц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ронична изложеност угљоводоницима доводи до иреверзибилне леукоенцефалопатије и хроничног неуро-бихејвиоралног синдр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пецифич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-хексан и метил-н-бутил кетон имају исти метаболит (2,5-хександион) који доводи до неуропат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лорисани угљоводоници имају хепатотоксичне метабол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ритирају кожу и слузокоже; дуготрајна употреба исушује кожу, и чини да она испу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алогенирани угљоводоници су нефротоксич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Још веће специфич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-хексан изазива периферну неуропат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 претвара 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и повећава количину карбоксихемоглоб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води до центрилобуларне некрозе јет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ензен изазива апластичну анемију и акутну мијелогену леукем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луен после хроничног тровања изазива дисталну реналну тубуларну ацидо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контаминација коже водом и сапу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 изазивати повраћање и не испирати желудац, због могуће аспирације и тешког оштећења плућ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ктивни угаљ није од кори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нтибиоти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ештачка вентил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 аритмије лидокаин или бета-блока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Тровање бензолом (бензеном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Бензол се користи као растварач за разне лакове и боје, али и у производњи предмета од гуме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 плас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Акутно тровање  - клиничка слика зависи од количине унетог от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Мања количина доводи до оштећења костне сржи, и резултујуће неутропеније, тромбоцитопеније, и анемије (под условом да се тровање често понављ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Већа количина доводи до оштећења костне сржи, али и до еуфорије, главобоље, затим депресивног дејства на централни нервни систем са настанком коме и престанком дис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мртоносна доза – око 8.8 г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1447920" y="5489640"/>
            <a:ext cx="99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ford DS. Benzol poisoning: report of case. California and western medicine. 1931;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(5):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Бензол (бензен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28560" y="2227320"/>
            <a:ext cx="507384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а собној температури то је безбојна или благо жута течност, слаткастог укуса, мириса који није неприја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зузетно брзо испарава на собној температ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Због неутропеније и тромбоцитопеније у клиничкој слици доминирају крварење из десни и системске инфе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6834240" y="2517840"/>
            <a:ext cx="156204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ед осталог, при сагоревању органске материје ствара се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на коју се адсорбују отрови;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е лепи за слузо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дисајних путева и омог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ва токсинима да делују на 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горевање пластике ослоб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цијан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Хронично тровање бензол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Вишегодишње уношење мањих доза отрова изази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Оштећење костне сржи са цитопениј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Мут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Акутну не-лимфоцитну леукем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Бензол и трихлоретилен и животна сред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8560" y="2226960"/>
            <a:ext cx="7886880" cy="23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а плацу у Обреновцу, село Вукићевица, власник закопао 25 тона индустријског отп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 контејнерима су пронађени бензол и трихлорети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ласник у притвору, шта се даље дешава са отпадом није позна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ајвеће излагање бензену је из дуванског дима, на пумпама за гориво, на путевима или у улицама са великим аутомобилским проме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753480" y="4875120"/>
            <a:ext cx="8629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00000"/>
                </a:solidFill>
                <a:latin typeface="Arial"/>
              </a:rPr>
              <a:t>Opasan otpad iz Obrenovca kao stogodišnja tempirana bomba [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нтернет]. </a:t>
            </a:r>
            <a:r>
              <a:rPr b="0" lang="sr-Latn-RS" sz="1000" spc="-1" strike="noStrike">
                <a:solidFill>
                  <a:srgbClr val="000000"/>
                </a:solidFill>
                <a:latin typeface="Arial"/>
              </a:rPr>
              <a:t>B92.ne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итирано 14. Јануар 2018.]. </a:t>
            </a:r>
            <a:r>
              <a:rPr b="0" lang="sr-Latn-RS" sz="1000" spc="-1" strike="noStrike">
                <a:solidFill>
                  <a:srgbClr val="000000"/>
                </a:solidFill>
                <a:latin typeface="Arial"/>
              </a:rPr>
              <a:t>Available at: </a:t>
            </a:r>
            <a:r>
              <a:rPr b="0" lang="sr-Latn-R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</a:t>
            </a:r>
            <a:r>
              <a:rPr b="0" lang="sr-Latn-R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92.net/info/vesti/index.php?yyyy=2017&amp;mm=12&amp;dd=29&amp;nav_category=12&amp;nav_id=1341605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arte-Davidson R, Courage C, Rushton L, Levy L. Benzene in the environment: an assessment of the potential risks to the health of the populati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cup Environ Med. 2001;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8(1):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–13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Трихлороетил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28200" y="2227320"/>
            <a:ext cx="586764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ристи се за одмашћивање металних површина и као полазна материја за синтезу органских хлорних једињ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Због велике испарљивости у организам човека продире пре свега путем инхал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 већој мери се уноси и преко контаминиране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6924600" y="1994040"/>
            <a:ext cx="1863720" cy="15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Трихлоретил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28560" y="191304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Делује акутно токсично на централни нервни систем, срце и локал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ЦНС – прво ексцитација, потом поспаност и ко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Срце – аритмиј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Локална итирација ткива на месту унос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Добро се апсорбује орално, инхалацијом, мање преко ко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Хронична токсичнос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Оштећење јетре, бубрега (постепено доводи до губитка функције бубрега), нервног система (оштећење тригеминалног нерва и поремећај вестибуларне функције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Вероватно канцероген, пре свега изазива карцином бубрег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Локално изазива дерматитис ако се дуго примењује тим путе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Вероватно тератоген, изазива урођене аномалије на срц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1261080" y="5176800"/>
            <a:ext cx="683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00000"/>
                </a:solidFill>
                <a:latin typeface="Arial"/>
              </a:rPr>
              <a:t>Cichocki JA, Guyton KZ, Guha N, Chiu WA, Rusyn I, Lash LH. Target Organ Metabolism, Toxicity, and Mechanisms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00000"/>
                </a:solidFill>
                <a:latin typeface="Arial"/>
              </a:rPr>
              <a:t>Trichloroethylene and Perchloroethylene: Key Similarities, Differences, and Data Gap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00000"/>
                </a:solidFill>
                <a:latin typeface="Arial"/>
              </a:rPr>
              <a:t>J Pharmacol Exp Ther.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2016; 359(1): 110–23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имптоми и знаци удисања д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ts val="4099"/>
              </a:lnSpc>
              <a:buClr>
                <a:srgbClr val="ffff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 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ts val="4099"/>
              </a:lnSpc>
              <a:buClr>
                <a:srgbClr val="ffff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ид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ts val="4099"/>
              </a:lnSpc>
              <a:buClr>
                <a:srgbClr val="ffff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љавају се велике кол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е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вог секр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ts val="4099"/>
              </a:lnSpc>
              <a:buClr>
                <a:srgbClr val="ffff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ускултацијом се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ју зв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уци и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ње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ts val="4099"/>
              </a:lnSpc>
              <a:buClr>
                <a:srgbClr val="ffff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хикардија, тахипне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ts val="4099"/>
              </a:lnSpc>
              <a:buClr>
                <a:srgbClr val="ffff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ипотен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ts val="4099"/>
              </a:lnSpc>
              <a:buClr>
                <a:srgbClr val="ffff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гитација, конфузија, к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ts val="4099"/>
              </a:lnSpc>
              <a:buClr>
                <a:srgbClr val="ffff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ње и блефароспаз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јагностика код тровања дим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2332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рење парцијалног притиска гасова у артеријској кр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во карбоксихемоглобина и метхемоглоб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ндге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ењ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љно је прегледати горње дисајне путеве ендоскопски, ако пост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ризик од инхалационог 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ња горњих дисајних пут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о се на ендоскопији примети 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ње горњих дисајних путева, урадити ендотрахеалну интубациј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 п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ха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 вентилација са позитивним прити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орна аспирација секрета и физикална терапија дис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рапијска бронхоско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инут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 пре са к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и испрати из 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ју, да би се сп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а даља апсорпција ток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ровање талијум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Карактеристике талију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0773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зузетно је растворљив у в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 раствору се налази у виду једновалентног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о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l</a:t>
            </a:r>
            <a:r>
              <a:rPr b="0" lang="sr-C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), који има сличан пречник ка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он калијума; зато користи пумпе з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алијум да би ушао у ћел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што има празне Д-орбитале, има висо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финитет за сулфхидрилне групе бројни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нзима, које после везивања инхиб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Талијум је коришћен ка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Отров за мраве и глодаре, као талијум сулф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Више се не користи због велике токсич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Ово једињење талијума нема ни укус ни мири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3:56:00Z</dcterms:created>
  <dc:creator>user1</dc:creator>
  <dc:description/>
  <dc:language>en-US</dc:language>
  <cp:lastModifiedBy>Windows korisnik</cp:lastModifiedBy>
  <dcterms:modified xsi:type="dcterms:W3CDTF">2018-01-15T20:19:35Z</dcterms:modified>
  <cp:revision>14</cp:revision>
  <dc:subject/>
  <dc:title>Slide 1</dc:title>
</cp:coreProperties>
</file>